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79BA-DF38-4FEE-8B87-85C6AF53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B5E0-5856-4672-8282-87A10F0B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C60A-288A-4E16-BC2A-72C57166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8C5C-254A-4731-8894-3D088665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F7C0-8EB7-407E-89F0-51390A33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5E5A-8D50-43B6-A248-8380672E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329B-87C6-4046-BE2B-8320E31A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BEBE-DC82-442E-BFDD-03E56CE2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DC71-132C-4CE8-AC46-F09C4495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D552-FB7C-4F0F-B6A7-EE0B9F9A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998F-7B1E-4C04-9A15-55C9C3A6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C24F-537E-4CF5-BF54-E804A9D0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B3A4-3B86-4D62-B335-2D2C1CEA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9673-1D81-426B-BC0F-C8E38FDD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17C2-32CC-4B2D-B157-BADA6F6F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7FDF-B5D6-4125-B335-E9E6CAC4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0F10-C116-480F-99D2-73F32881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C810-FC20-4247-9DE3-B8993FA1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ED9A-137E-40DC-887B-1D2A03A2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7AE6-B558-45A4-848E-F89638AB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CFED-AFF4-4161-94B4-78B58A2F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F146-704A-49FD-9E9F-F5A407E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4E30-132B-4560-BAF6-8D647826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ECC0-54B4-4850-8384-09DD8BE4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C67E-767D-4C89-A599-314FB6FCB8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757C-E2D8-4DFA-8F12-A38567D501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                       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380880"/>
            <a:ext cx="6188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380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66ccff"/>
                </a:solidFill>
                <a:latin typeface="Tahoma"/>
              </a:rPr>
              <a:t>Las Com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ahoma"/>
              </a:rPr>
              <a:t>By: Mary Peders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3049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2860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55960" y="493560"/>
            <a:ext cx="344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 el desayuno me gusta come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2209680" cy="2057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838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Los hue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1762200" cy="2600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28800" y="6095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137160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48640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aramond"/>
              </a:rPr>
              <a:t>El toc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352680" y="38862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29400" y="4114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Garamond"/>
              </a:rPr>
              <a:t>Las fru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0" y="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Para el amuzero me gusta com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609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4962600"/>
            <a:ext cx="2419200" cy="1895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44956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Garamond"/>
              </a:rPr>
              <a:t>El bocad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858000" y="609480"/>
            <a:ext cx="1895400" cy="2419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010280" y="3048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Garamond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3048120"/>
            <a:ext cx="106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Garamond"/>
              </a:rPr>
              <a:t>El ag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648480" y="50292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10080" y="5867280"/>
            <a:ext cx="1143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Garamond"/>
              </a:rPr>
              <a:t>La </a:t>
            </a:r>
            <a:r>
              <a:rPr b="0" lang="en-US" sz="2000" spc="-1" strike="noStrike">
                <a:solidFill>
                  <a:srgbClr val="33cc33"/>
                </a:solidFill>
                <a:latin typeface="Garamond"/>
              </a:rPr>
              <a:t>ensal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0" y="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2400" spc="-1" strike="noStrike">
                <a:solidFill>
                  <a:srgbClr val="ff33cc"/>
                </a:solidFill>
                <a:latin typeface="Garamond"/>
              </a:rPr>
              <a:t>Para la cena me gusta com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24800" y="1219320"/>
            <a:ext cx="2419200" cy="1885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5800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Garamond"/>
              </a:rPr>
              <a:t>        </a:t>
            </a:r>
            <a:r>
              <a:rPr b="0" lang="en-US" sz="1800" spc="-1" strike="noStrike">
                <a:solidFill>
                  <a:srgbClr val="ffff66"/>
                </a:solidFill>
                <a:latin typeface="Garamond"/>
              </a:rPr>
              <a:t>La limon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5000760"/>
            <a:ext cx="2457360" cy="1857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Garamond"/>
              </a:rPr>
              <a:t>    </a:t>
            </a:r>
            <a:r>
              <a:rPr b="0" lang="en-US" sz="1800" spc="-1" strike="noStrike">
                <a:solidFill>
                  <a:srgbClr val="993300"/>
                </a:solidFill>
                <a:latin typeface="Garamond"/>
              </a:rPr>
              <a:t>El bift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41911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Las pap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524640" y="51148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990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66ccff"/>
                </a:solidFill>
                <a:latin typeface="Garamond"/>
              </a:rPr>
              <a:t>El arro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57400" y="2286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Par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Garamond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a886e0"/>
                </a:solidFill>
                <a:latin typeface="Garamond"/>
              </a:rPr>
              <a:t>post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Garamond"/>
              </a:rPr>
              <a:t>m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gust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Garamond"/>
              </a:rPr>
              <a:t>com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 helado de vaini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5124600"/>
            <a:ext cx="2629080" cy="1733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4648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Garamond"/>
              </a:rPr>
              <a:t>Galletas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838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Garamond"/>
              </a:rPr>
              <a:t>Pastel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629400" y="1447920"/>
            <a:ext cx="23335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8:55Z</dcterms:created>
  <dc:creator>pedersonmar</dc:creator>
  <dc:description/>
  <dc:language>en-US</dc:language>
  <cp:lastModifiedBy>pedersonmar</cp:lastModifiedBy>
  <dcterms:modified xsi:type="dcterms:W3CDTF">2012-04-04T18:08:54Z</dcterms:modified>
  <cp:revision>4</cp:revision>
  <dc:subject/>
  <dc:title>                         </dc:title>
</cp:coreProperties>
</file>